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amera.wav" ContentType="audio/x-wav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54AE-C6B4-4E00-B57D-6CB3C5D0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416-2538-4F6D-820E-9C84FD46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1CBC-3185-47B7-A3CE-852017C0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0FE-729B-46B5-AD49-6C732ECB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FECE-DF8C-41DF-A93B-A5BDAE0D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47D5-860C-4350-B8D1-F58FEDE6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A2F5-A35C-4311-A364-C5A65267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D25A-88CC-48D8-A401-7F277515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8EF8-F51B-4393-9D14-AC7F5CFC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E8D4-A227-4B14-ABB2-2789FFD5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F5BF-88C0-41C6-9CB0-74D36DD7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1C70-F5E9-4CA9-96CB-422C1721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91FB-F284-4D27-839E-A947F96E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D287-26DE-4027-B50F-E72EB9C1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A514-F84E-4818-A2CF-FCE10015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AA2E-335E-4ECC-81F0-693B558A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478F-8995-485B-B1C3-5FF93303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AE14E-0E1D-4F31-AE42-71894197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7A57F-56C7-4026-A2A7-23BCA289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E1045-E2A5-4475-83A3-F44D2903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0120D-1362-4C0E-A2AA-955B5A28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0308E-7CE4-4B01-802D-A0A3FDFE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2AAE-454B-4F6B-B441-D4D754E8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E2C4E-929C-4A13-BB17-D7E5CD0E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CC6EE-A328-408D-B092-5D50C72F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3AF20-9338-4671-8C45-B79835AA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C16E4-6530-46D9-BA6C-B9D52884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6FE94-0410-47E1-9A6F-8CCF4677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B5297-E83D-46B2-8C68-DAB599BB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CA720-813E-44AB-A639-868BAB5E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2E2C09-193B-4C96-8141-B530922A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D19B95-9BB8-4B59-9F84-68479107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CAE8FC-FA1D-43AB-A99A-6E177A92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E1F-5C53-4581-BBED-A4EF0C2C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3A070A-355B-4607-91BC-8F3586B3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F0A04D-FCBE-4765-A757-FCBC2613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EAF56F-6FFC-4D6D-88E5-26B91C2F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E51AD8-E4DF-4CF1-BFB5-7645A9E8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5BE89F-FC73-4705-BE9C-AA72BE9C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9ADEBE-70ED-4FD8-A8C5-97DF6A03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E7F64C-A177-4D8E-B742-8FD566A2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487380-7587-4FF0-95FD-07149780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3E17A6-22DC-4C68-AA55-94CBEB15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FB19-C16D-4674-AB79-723A4F31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95B0-69D3-4D58-BCEE-A081A4B2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3E7-1A04-46CA-BE47-AC12F49B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3008-9605-4EA0-84A7-B03CF8DB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0CC7-4AF5-4AF8-A2E6-4CEE2433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CE2D-BD00-40D1-B9B6-9C29E27967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1C95-FADB-46A7-8431-467E2ACDA8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972B-EC3D-4E41-B091-060620B759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5CDC-CA32-4336-BD99-A51C71B60F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58920" y="476280"/>
            <a:ext cx="5761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2920" y="476280"/>
            <a:ext cx="4105440" cy="34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102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عــام أف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وعــــــام أطـــ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1557360"/>
            <a:ext cx="8207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خليليّ كم من ميت قد حضرته             ولـكــنني لم أنتفـــع بحضـــــوري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ليال قد أرتني عجائبــــاً             لهن وأيام خـــــلت وشهـــــــ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سنـــين قد طوتني كثيرة               وكم من أمور قد جرت وأم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لم يزده السن ما عاش عبرة               فذاك الذي لا يســتنير بنـــــــور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765000"/>
            <a:ext cx="8353440" cy="75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عن ابن عمر رضي الله عنه قال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خذ رسول الله صلى الله عليه وسلم بمنكبي فقا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كن في الدنيا كأنك غريب أو عابر سبيل 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وكان ابن عمر يقو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إذا أمسيت فلا تنتظر الصباح وإذا أصبحت فلا تنتظر المساء 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وخذ من صحتك لمرضك ، ومن حياتك لموتك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رواه البخار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907920"/>
            <a:ext cx="88549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ـطعـــت شهـــور العمــر لـهوا وغـفـــــــلة        ولم تحـــــترم فيمــــــا أتيت المحــــــــــرّ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لا رجــب وافــــــــــيت فـيه بـــحـــــــقه        ولا صمت شهر الصـــوم صوما متم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لا في ليــالي عشر ذي الحــــــــجــة الذي       مضى كنت قـواما ولا كنت محــــــــر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هــــل لك أن تمــــــحي الذنـــــــوب بـعـبرة       وتبكـي عـليها حســرة وتنــــــــــدمــــ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تسـتـــــــقبل العــــــــام الجـــــديـد بتوبـــة       لعـلك أن تمحـوا بـها ما تقـــــــــــــــد مــا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"/>
              </a:rPr>
              <a:t>قيل لنوح عليه السلام، وقد لبث مع قومه ألف سنة إلا خمسين عاماً: كيف رأيت هذه الدنيا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فقال: كداخل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من باب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DecoType Naskh"/>
              </a:rPr>
              <a:t> وخارج من آخر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912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12" autoRev="1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404640"/>
            <a:ext cx="8820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الفرح بقطع الأيام والأعوام دون اعتبار وحساب لما كان فيها ويكون بعد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هو من البيع المغبون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فالعاقل من اتعظ بأمسه، واجتهد في يومه، واستعد لغد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2133720"/>
            <a:ext cx="7127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ن تفكر في عواقب الدنيا أخذ الحذر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أيقن بطول الطريق تأهب للسفر،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ا أعجب أمرك يا من يُوقن بأمر ثم ينساه 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يتحقق ضرراً حالاًَّ ثم يغشاه 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تغلبكَ نفسُك على ما تظن ، ولا تغلبها على ماتستيقن !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24000" y="1125360"/>
            <a:ext cx="471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قال ابن الجوزي رحمه الله تعا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4360" y="981000"/>
            <a:ext cx="7920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اجعل جل اهتمامك بالآخرة يزح الله به باقي الهموم ليصفو القلب لله تعال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إن كان في بحر من الابتلاء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( من جعل الهموم هما واحدا هم المعاد كفاه الله سائر هموم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تشعبت به الهموم من أحوال الدني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لم يبال الله في أي أوديتها هلك 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8360" y="333360"/>
            <a:ext cx="82072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تجارة الآخرة لا تبور .. والتهافت على الدنيا لا يغير المقد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 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( من كانت الآخرة همه ،جعل الله غناه في قلبه ، وجمع له شمله 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أتته الدنيا وهي راغمة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من كانت الدنيا ه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جعل الله فقره بين عينيه ، وفرق عليه شمل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لم يأته من الدنيا إلا ما قدر ل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964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4560" y="2133720"/>
            <a:ext cx="8569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ما مـــــــــضى كان همساتُ مُشْفِــــق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كلماتُ ناصـــــــــــــــح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إن يكن زل لساني عن صواب فاعذروني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أو يكن واقع سوءاً سامحوني </a:t>
            </a: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 الله الله في المسامح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اعذروني على التقصير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ar-SA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6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577280" y="171612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066760"/>
            <a:ext cx="799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ونحن في أواخر مراحل هذا العام ولا ندري أندرك عامنا الجديد أم يحول  المنون بيننا وبين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إليك هذه الوقف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أسأل الله تعالى أن تجد لها في قلبك موضعا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692280"/>
            <a:ext cx="460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بسم الله الرحمن الرح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16000" y="1268280"/>
            <a:ext cx="68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يا نفس لله توبي  واستغفري من ذنوبي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قد بدت  شمس عامي  تميل نحو  الغروب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59280" y="3084480"/>
            <a:ext cx="412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95440"/>
            <a:ext cx="792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نسير إلى الآجال في كل لحـظة  *** وأعمارنا تطــوى وهن مــرا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ترحل من الدنيا بزاد من التقى *** فعمـــرك أيـــــــام وهــنّ قــــــلائـ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ما هذه الأيام إلا مــــــراحــل  *** يحث بها حاد إلى الموت قاص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أعجب شيء لو تأملت أنها *** منازل تطـوى والمســـافر قــــاع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6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1125360"/>
            <a:ext cx="6912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Traditional Arabic"/>
              </a:rPr>
              <a:t>قال علي بن أبي طالب رضي الله تعالى عنه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(ارتحلت الدنيا مدبرة وارتحلت الآخرة مقبل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لكل واحدة منها بنون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كونوا من أبناء الآخرة، ولا تكونوا من أبناء الدنيا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فإن اليوم عمل ولا حساب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غداً حساب ولا عمل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خرجه البخاري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3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3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3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3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3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3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333360"/>
            <a:ext cx="820728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بن عياض لرجل : كم أتى عليك ؟ قال : ستون سن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فأنت منذ ستين سنة تسير إلى ربك يوشك أن تبلغ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إنا لله و إنا إليه راجعو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: أتعرف تفسيره تقول : إنا لله و إنا إليه راجعون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من علم أنه لله عبد وأنه إليه راجع فليعلم أنه موقوف ، ومن علم أنه موقوف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ليعلم أنه مسئول ، فليعد للسؤال جوابا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فما الحيلة 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يسيرة . قال: ما هي 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قال : تحسن فيما بقي يغفر لك ما مضى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إنك إن أسأت فيما بقي ، أُخذت بما مضى وما بقي والأعمال بالخواتيم .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6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20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5950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260280"/>
            <a:ext cx="7848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1341360"/>
            <a:ext cx="51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وأنت تسير في هذه الدنيا .. هناك يوم سيتوقف المسير وتحط بك القافلة ولكن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13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إذا أنت لم ترحلْ بزادٍ من التقى     ولاقيتَ بعد الموتِ من قد تزود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ندمتَ على ألا تكون كمثـــــــلِه      وأنك لم ترصدْ كما كان أرصد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260280"/>
            <a:ext cx="91440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تمر ســاعـات أيـــامي بلا نــــــــدم           ولا بـكاء ولا خـوف ولا حــــــز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ما أحلم الله عني حيث أمـــهـلني          وقد تمـاديت في ذنبـي ويســـــــــــترنـ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نا الذي أغلق الأبواب مجتهــــــدا          على المعاصي وعين الله تنظــــــــــــرني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نوح على نفسي وأنـدبــهـــا          وأقطع الدهــــــر بالتـــسبيح والحـــز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سح دموعا لا انقطـاع لـها         فهل عسـى عـبـــــرة منـي تخـــــلــصـن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11280" y="1413000"/>
            <a:ext cx="78483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إنـا لنفرح بالأيام نقطـعــــــــــــــــها      وكل يوم مضى يدني من الأجـل 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اعمل لنفسك قبل الموت مجتهـداً       فـــإنما الربــح والخسران في العمل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3:59:49Z</dcterms:created>
  <dc:creator>Al-Mshikhi</dc:creator>
  <dc:description/>
  <dc:language>en-US</dc:language>
  <cp:lastModifiedBy>sjuhaifa</cp:lastModifiedBy>
  <dcterms:modified xsi:type="dcterms:W3CDTF">2007-01-22T04:32:59Z</dcterms:modified>
  <cp:revision>61</cp:revision>
  <dc:subject/>
  <dc:title>الشريحة 1</dc:title>
</cp:coreProperties>
</file>